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0BF-BECB-4091-B2C2-B55D6395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B2A-181D-4D03-B946-0D77512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966-20D0-4C58-84A8-1F5FA013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01B-680B-4B7D-982E-4CC80AEA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354A-7C38-48BF-9AF9-5B09C53D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2337-56EB-44B8-B796-38F0651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C27C-9424-47B4-A194-1FD8046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B7E2-18DC-4555-9DDD-AA26C6AD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143-38E3-401E-93F5-2CE0B568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C7ED-CC73-47AC-AE07-DF56655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7E05-CA0D-49EB-844F-13A84DC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6CC-E9FA-42BE-B466-D14C1E1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A460-1BBD-4CBA-A777-A90CBA7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FBE0-23F4-4175-81EE-5F1E845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A4F-D129-44C0-8D72-CDD04D28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7F2-FFAE-4F58-B8F4-82BB1CCD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A193-2CD8-4ECF-8FCB-BD552880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04D-CDB9-46D4-BAE5-06B5CA1D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454-4C6E-439F-963F-97BAE6F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C3A-54E4-48C8-9C1D-0420658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410-CA7A-48CA-841E-5B7F60B1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5C3-F031-45C8-B494-C10E058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6C-255A-41F7-AC93-8F0110D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891-CB27-434B-AF96-9F45643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F14-8388-45BD-9972-8BA35E2399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CFA-B114-4387-9CF2-20239A7D43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ngle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274320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3726720" y="58165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276120" y="3983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6280560" y="361476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81952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769560" y="580716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6366240" y="321948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7273800" y="3191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923520" y="4038480"/>
            <a:ext cx="19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104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39"/>
          <p:cNvSpPr/>
          <p:nvPr/>
        </p:nvSpPr>
        <p:spPr>
          <a:xfrm>
            <a:off x="5145120" y="4603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77400" y="4249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subtrac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wo angles from 18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800600" y="106668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585240" y="587700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5105520" y="4724280"/>
            <a:ext cx="8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4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117720" y="41925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your unknown ang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9"/>
          <p:cNvSpPr/>
          <p:nvPr/>
        </p:nvSpPr>
        <p:spPr>
          <a:xfrm>
            <a:off x="134280" y="46162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40"/>
          <p:cNvSpPr/>
          <p:nvPr/>
        </p:nvSpPr>
        <p:spPr>
          <a:xfrm>
            <a:off x="6906960" y="365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 =104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517040" y="53352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will do a few toge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819520" y="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d Pract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62940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0"/>
          <p:cNvSpPr/>
          <p:nvPr/>
        </p:nvSpPr>
        <p:spPr>
          <a:xfrm>
            <a:off x="2133720" y="449568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AutoShape 22"/>
          <p:cNvSpPr/>
          <p:nvPr/>
        </p:nvSpPr>
        <p:spPr>
          <a:xfrm>
            <a:off x="3124080" y="2590920"/>
            <a:ext cx="3505320" cy="190476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4764240" y="2062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943360" y="448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6669360" y="451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6"/>
          <p:cNvSpPr/>
          <p:nvPr/>
        </p:nvSpPr>
        <p:spPr>
          <a:xfrm flipH="1">
            <a:off x="62485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27"/>
          <p:cNvSpPr/>
          <p:nvPr/>
        </p:nvSpPr>
        <p:spPr>
          <a:xfrm>
            <a:off x="62485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6118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4072320" y="1778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1"/>
          <p:cNvSpPr/>
          <p:nvPr/>
        </p:nvSpPr>
        <p:spPr>
          <a:xfrm>
            <a:off x="4267080" y="2209680"/>
            <a:ext cx="6098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2527920" y="35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3"/>
          <p:cNvSpPr/>
          <p:nvPr/>
        </p:nvSpPr>
        <p:spPr>
          <a:xfrm>
            <a:off x="2743200" y="39625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se steps to find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br>
              <a:rPr sz="2400"/>
            </a:b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987200" y="1962000"/>
            <a:ext cx="54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find an unknown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291680" y="2822400"/>
            <a:ext cx="70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easure of a complementary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836800" y="393696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you learn to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78000" y="976320"/>
            <a:ext cx="80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angles are two angles whose sum of their measurements is 90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276720" y="2286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990720" y="31240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990720" y="4876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990720" y="3276360"/>
            <a:ext cx="838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066680" y="3657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4479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990720" y="358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1066680" y="3962520"/>
            <a:ext cx="763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038480" y="48006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5791320" y="30481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H="1" flipV="1">
            <a:off x="4419720" y="3352680"/>
            <a:ext cx="1371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 flipV="1">
            <a:off x="5486400" y="4495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54864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952880" y="37339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890600" y="4290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832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46364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131868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489996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827640" y="563868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4332600" y="571500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125440" y="6005520"/>
            <a:ext cx="55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omplementary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684360" y="2668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411480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28240" y="838080"/>
            <a:ext cx="872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we will use complementa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gles and the sum of the given angles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iangle to solve an unknown ang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603440" y="312408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use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15240" y="40384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find the sum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43480" y="487692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ill we use to find the sum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57960" y="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360080" y="5562720"/>
            <a:ext cx="71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lving the sum of the given angl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going to sol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89280" y="685800"/>
            <a:ext cx="73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y are we learning thi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4760" y="2057400"/>
            <a:ext cx="90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become more successful in mathema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287360" y="312408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be on the DWA and state t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902160" y="419112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be able to identify unknown ang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89600" y="541008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678120" y="1382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603440" y="60948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needed for the les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2560" y="190512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two rays with a common end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26040" y="281952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has a total measurement of 18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748880" y="4191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819080" y="5029200"/>
            <a:ext cx="65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easurement of a tri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3400" y="5835600"/>
            <a:ext cx="86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ngle is touching or side by side and it shares a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ray, 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656880" y="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5320" y="348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07320" y="350532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acent 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ide by side/ sharing a common vertex and 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2"/>
          <p:cNvSpPr/>
          <p:nvPr/>
        </p:nvSpPr>
        <p:spPr>
          <a:xfrm>
            <a:off x="3124080" y="685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"/>
          <p:cNvSpPr/>
          <p:nvPr/>
        </p:nvSpPr>
        <p:spPr>
          <a:xfrm flipH="1">
            <a:off x="838080" y="2971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114300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537640" y="12193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895480" y="175248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67800" y="111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981080" y="1371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375920" y="247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600200" y="2666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4876920" y="10666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876920" y="31240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876920" y="1066680"/>
            <a:ext cx="35812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4876920" y="2057040"/>
            <a:ext cx="17524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2819520" y="2666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281952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48769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5181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5434920" y="2682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5105520" y="297180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5871600" y="1836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3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4878000" y="1219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41972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500400" y="2858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381920" y="21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1232640" y="371484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ngle was drawn in example 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552960" y="45338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the angle adjacent to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992520" y="554976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any whole triang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43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5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48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0"/>
          <p:cNvSpPr/>
          <p:nvPr/>
        </p:nvSpPr>
        <p:spPr>
          <a:xfrm>
            <a:off x="2743200" y="91440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4800600" y="9144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4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76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77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8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9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8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18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53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54"/>
          <p:cNvSpPr/>
          <p:nvPr/>
        </p:nvSpPr>
        <p:spPr>
          <a:xfrm>
            <a:off x="3733920" y="4572000"/>
            <a:ext cx="350496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5017320" y="33177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Solve fo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81952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32"/>
          <p:cNvSpPr/>
          <p:nvPr/>
        </p:nvSpPr>
        <p:spPr>
          <a:xfrm flipH="1">
            <a:off x="228564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3352680" y="5257800"/>
            <a:ext cx="53352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248520" y="5867280"/>
            <a:ext cx="609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2895480" y="2286000"/>
            <a:ext cx="16765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6553080" y="4038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35"/>
          <p:cNvSpPr/>
          <p:nvPr/>
        </p:nvSpPr>
        <p:spPr>
          <a:xfrm>
            <a:off x="2895480" y="3581280"/>
            <a:ext cx="1219320" cy="3048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6"/>
          <p:cNvSpPr/>
          <p:nvPr/>
        </p:nvSpPr>
        <p:spPr>
          <a:xfrm>
            <a:off x="3994920" y="588636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7"/>
          <p:cNvSpPr/>
          <p:nvPr/>
        </p:nvSpPr>
        <p:spPr>
          <a:xfrm>
            <a:off x="140040" y="437688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id I do fir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8"/>
          <p:cNvSpPr/>
          <p:nvPr/>
        </p:nvSpPr>
        <p:spPr>
          <a:xfrm>
            <a:off x="168840" y="4876920"/>
            <a:ext cx="22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id I subtract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angle from 9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9"/>
          <p:cNvSpPr/>
          <p:nvPr/>
        </p:nvSpPr>
        <p:spPr>
          <a:xfrm>
            <a:off x="133200" y="54770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your tw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s equ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19:20Z</dcterms:created>
  <dc:creator>Computer User</dc:creator>
  <dc:description/>
  <dc:language>en-US</dc:language>
  <cp:lastModifiedBy>Guest</cp:lastModifiedBy>
  <dcterms:modified xsi:type="dcterms:W3CDTF">2008-11-15T18:29:41Z</dcterms:modified>
  <cp:revision>21</cp:revision>
  <dc:subject/>
  <dc:title>PowerPoint Presentation</dc:title>
</cp:coreProperties>
</file>