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7F3-F769-4A35-9846-099A9543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0BE-B50A-47C1-84CC-3ABE7BC8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8C5-00F8-4FE8-B73B-F0F356EB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FAD-97AA-4AEB-B6D3-3E4876C1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0FF5-ADF1-41AA-A4E0-628FC2D7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63B-6DD8-4FBD-8B3D-F6A84D7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F63-E440-4B12-9A9E-144CA00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DED-CF72-460F-8B2E-F098092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D03C-D2BE-4256-AF99-E587538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EB90-2FDF-4DA2-A92F-D781072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AFC3-3422-43FB-AB0D-B912928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727-A61E-4F85-A1D1-147F28B3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E33F-4AE8-4BF2-9E28-423338D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C713-C0D8-499E-9868-66EE9BC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FEC-307C-4B4B-97D6-DF8473C6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FC9E-9521-4B55-812B-0F58B688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BA11-5F4F-4C81-931F-A11630E7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C58-766C-4DF1-AD9D-B4150E1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0F3-71CB-43B9-A982-7369CF8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8B0-AA1C-48C2-8EC7-B9AF996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231-32C1-40BB-BED4-D0E5F998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D5E-9C3A-4002-ACCD-7329D4F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5E-C630-4A70-8284-DEEE590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1EC-DACE-432F-8BF0-110E8DE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FBE-EAE5-40C2-A7CB-E2247280EF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918-7844-415B-A006-C1E9AEFA9A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ngle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274320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3726720" y="58165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276120" y="3983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6280560" y="361476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81952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769560" y="580716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6366240" y="321948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7273800" y="3191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923520" y="4038480"/>
            <a:ext cx="19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104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39"/>
          <p:cNvSpPr/>
          <p:nvPr/>
        </p:nvSpPr>
        <p:spPr>
          <a:xfrm>
            <a:off x="5145120" y="4603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77400" y="4249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subtrac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wo angles from 18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800600" y="106668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585240" y="587700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5105520" y="4724280"/>
            <a:ext cx="8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4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117720" y="41925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your unknown ang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9"/>
          <p:cNvSpPr/>
          <p:nvPr/>
        </p:nvSpPr>
        <p:spPr>
          <a:xfrm>
            <a:off x="134280" y="46162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40"/>
          <p:cNvSpPr/>
          <p:nvPr/>
        </p:nvSpPr>
        <p:spPr>
          <a:xfrm>
            <a:off x="6906960" y="365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 =104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517040" y="53352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will do a few toge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819520" y="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d Pract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62940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0"/>
          <p:cNvSpPr/>
          <p:nvPr/>
        </p:nvSpPr>
        <p:spPr>
          <a:xfrm>
            <a:off x="2133720" y="449568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AutoShape 22"/>
          <p:cNvSpPr/>
          <p:nvPr/>
        </p:nvSpPr>
        <p:spPr>
          <a:xfrm>
            <a:off x="3124080" y="2590920"/>
            <a:ext cx="3505320" cy="190476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4764240" y="2062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943360" y="448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6669360" y="451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6"/>
          <p:cNvSpPr/>
          <p:nvPr/>
        </p:nvSpPr>
        <p:spPr>
          <a:xfrm flipH="1">
            <a:off x="62485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27"/>
          <p:cNvSpPr/>
          <p:nvPr/>
        </p:nvSpPr>
        <p:spPr>
          <a:xfrm>
            <a:off x="62485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6118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4072320" y="1778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1"/>
          <p:cNvSpPr/>
          <p:nvPr/>
        </p:nvSpPr>
        <p:spPr>
          <a:xfrm>
            <a:off x="4267080" y="2209680"/>
            <a:ext cx="6098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2527920" y="35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3"/>
          <p:cNvSpPr/>
          <p:nvPr/>
        </p:nvSpPr>
        <p:spPr>
          <a:xfrm>
            <a:off x="2743200" y="39625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se steps to find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br>
              <a:rPr sz="2400"/>
            </a:b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987200" y="1962000"/>
            <a:ext cx="54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find an unknown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291680" y="2822400"/>
            <a:ext cx="70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easure of a complementary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836800" y="393696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you learn to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78000" y="976320"/>
            <a:ext cx="80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angles are two angles whose sum of their measurements is 90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276720" y="2286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990720" y="31240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990720" y="4876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990720" y="3276360"/>
            <a:ext cx="838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066680" y="3657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4479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990720" y="358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1066680" y="3962520"/>
            <a:ext cx="763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038480" y="48006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5791320" y="30481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H="1" flipV="1">
            <a:off x="4419720" y="3352680"/>
            <a:ext cx="1371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 flipV="1">
            <a:off x="5486400" y="4495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54864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952880" y="37339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890600" y="4290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832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46364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131868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489996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827640" y="563868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4332600" y="571500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125440" y="6005520"/>
            <a:ext cx="55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omplementary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684360" y="2668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411480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28240" y="838080"/>
            <a:ext cx="872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we will use complementa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gles and the sum of the given angles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iangle to solve an unknown ang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603440" y="312408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use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15240" y="40384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find the sum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43480" y="487692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ill we use to find the sum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57960" y="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360080" y="5562720"/>
            <a:ext cx="71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lving the sum of the given angl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going to sol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89280" y="685800"/>
            <a:ext cx="73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y are we learning thi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4760" y="2057400"/>
            <a:ext cx="90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become more successful in mathema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287360" y="312408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be on the DWA and state t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902160" y="419112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be able to identify unknown ang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89600" y="541008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678120" y="1382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603440" y="60948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needed for the les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2560" y="190512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two rays with a common end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26040" y="281952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has a total measurement of 18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748880" y="4191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819080" y="5029200"/>
            <a:ext cx="65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easurement of a tri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3400" y="5835600"/>
            <a:ext cx="86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ngle is touching or side by side and it shares a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ray, 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656880" y="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5320" y="348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07320" y="350532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acent 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ide by side/ sharing a common vertex and 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2"/>
          <p:cNvSpPr/>
          <p:nvPr/>
        </p:nvSpPr>
        <p:spPr>
          <a:xfrm>
            <a:off x="3124080" y="685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"/>
          <p:cNvSpPr/>
          <p:nvPr/>
        </p:nvSpPr>
        <p:spPr>
          <a:xfrm flipH="1">
            <a:off x="838080" y="2971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114300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537640" y="12193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895480" y="175248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67800" y="111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981080" y="1371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375920" y="247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600200" y="2666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4876920" y="10666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876920" y="31240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876920" y="1066680"/>
            <a:ext cx="35812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4876920" y="2057040"/>
            <a:ext cx="17524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2819520" y="2666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281952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48769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5181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5434920" y="2682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5105520" y="297180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5871600" y="1836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3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4878000" y="1219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41972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500400" y="2858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381920" y="21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1232640" y="371484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ngle was drawn in example 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552960" y="45338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the angle adjacent to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992520" y="554976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any whole triang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43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5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48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0"/>
          <p:cNvSpPr/>
          <p:nvPr/>
        </p:nvSpPr>
        <p:spPr>
          <a:xfrm>
            <a:off x="2743200" y="91440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4800600" y="9144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4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76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77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8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9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8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18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53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54"/>
          <p:cNvSpPr/>
          <p:nvPr/>
        </p:nvSpPr>
        <p:spPr>
          <a:xfrm>
            <a:off x="3733920" y="4572000"/>
            <a:ext cx="350496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5017320" y="33177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Solve fo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81952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32"/>
          <p:cNvSpPr/>
          <p:nvPr/>
        </p:nvSpPr>
        <p:spPr>
          <a:xfrm flipH="1">
            <a:off x="228564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3352680" y="5257800"/>
            <a:ext cx="53352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248520" y="5867280"/>
            <a:ext cx="609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2895480" y="2286000"/>
            <a:ext cx="16765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6553080" y="4038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35"/>
          <p:cNvSpPr/>
          <p:nvPr/>
        </p:nvSpPr>
        <p:spPr>
          <a:xfrm>
            <a:off x="2895480" y="3581280"/>
            <a:ext cx="1219320" cy="3048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6"/>
          <p:cNvSpPr/>
          <p:nvPr/>
        </p:nvSpPr>
        <p:spPr>
          <a:xfrm>
            <a:off x="3994920" y="588636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7"/>
          <p:cNvSpPr/>
          <p:nvPr/>
        </p:nvSpPr>
        <p:spPr>
          <a:xfrm>
            <a:off x="140040" y="437688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id I do fir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8"/>
          <p:cNvSpPr/>
          <p:nvPr/>
        </p:nvSpPr>
        <p:spPr>
          <a:xfrm>
            <a:off x="168840" y="4876920"/>
            <a:ext cx="22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id I subtract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angle from 9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9"/>
          <p:cNvSpPr/>
          <p:nvPr/>
        </p:nvSpPr>
        <p:spPr>
          <a:xfrm>
            <a:off x="133200" y="54770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your tw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s equ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19:20Z</dcterms:created>
  <dc:creator>Computer User</dc:creator>
  <dc:description/>
  <dc:language>en-US</dc:language>
  <cp:lastModifiedBy>Guest</cp:lastModifiedBy>
  <dcterms:modified xsi:type="dcterms:W3CDTF">2008-11-15T18:29:41Z</dcterms:modified>
  <cp:revision>21</cp:revision>
  <dc:subject/>
  <dc:title>PowerPoint Presentation</dc:title>
</cp:coreProperties>
</file>