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8.jpeg" ContentType="image/jpeg"/>
  <Override PartName="/ppt/media/image1.png" ContentType="image/png"/>
  <Override PartName="/ppt/media/image3.png" ContentType="image/png"/>
  <Override PartName="/ppt/media/image5.jpeg" ContentType="image/jpeg"/>
  <Override PartName="/ppt/media/image16.jpeg" ContentType="image/jpeg"/>
  <Override PartName="/ppt/media/chimes.wav" ContentType="audio/x-wav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9E61-5227-40CB-9286-31275C17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2A72-B735-4012-80FC-FB167E92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BEB6-B2DD-4E6C-8CD7-84F1D2C7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F768-58DD-42A1-9109-0E4DDA07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3A11-E26C-47F5-A80E-8264A1F4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7969-6F25-4EBC-9612-4D0CA886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6E38-0034-4716-A360-69A7796F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400D-7F96-40A8-8448-D9CD3F8F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3975-4152-4231-A469-21DF1D1E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FF6B-45AA-4FC2-BDE5-CDCBD3E0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6C7C-A20E-4B04-BF97-4E3E9866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1972-12EF-4DBB-BF78-240C9753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63F8-5AC4-4C32-BB49-721949D4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CDCE-B788-41C5-9107-599E41F3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713C-7A56-4685-B365-7918EA03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6E38-48F4-4169-9EA1-8337C914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44B6-82F8-45EB-AD38-485959DC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EC50C-2369-4161-9846-47175D62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2FF61-8DC1-4004-8B00-FAA85F0E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23F35-495D-4474-A3E2-6E488550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CAB15-C1EF-4E9D-ADE4-311EF145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86289-F005-4D93-A55E-8B55A7E0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D80-5F0C-491F-9500-9F49BCAB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7D5EE-9B21-4E6D-99DB-125ACBCE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E0F37-DA83-4B14-99EC-F67862CD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876CF-1F69-4CF8-AF0C-D24C0D49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61DED-15C6-4C49-B0F9-4E8A8FA1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87370-CBC4-4B01-AD83-747F668E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821A9-081F-49AE-B687-CF0AB1B7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B31AD-CD67-4150-8D43-89BA80A8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DDACC-4B0F-4563-8E8E-6A459C7E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FFF05-415B-4167-AE0D-350F0EDE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AFB9D-8C4F-48D0-96EE-50482E8C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00B-FDE4-436E-9D83-D864A6EF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39642-9204-4987-B223-D1C33E3E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86F0D-E9F5-4422-A2F7-B4F7D999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27063-421F-4E85-8699-979A1F8C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2B033-2A8F-45A7-AEC5-011CD973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D0844-D1A3-4A33-8203-F0F349CC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33A0A-6871-4163-9C25-9FC4B3E0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2B1BC-6668-4A4D-ABA8-371DC758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892B1-A550-4860-BE33-21BAD0FC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5940B-32E2-4490-82F4-B27AB5EE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D6FC2-CE53-421F-88BA-47057358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9AD2-2B21-4B5C-8D96-4E812103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E54D4-50EE-4AE2-850A-1F8BD473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F4166-0D14-4DE7-86CB-29C0C22A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2790A-3D09-4A82-87F5-9D6B821D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F8031-DCDF-4BBC-8F01-61C6F53E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98E51-5865-485D-B264-20F0BF38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58EC9-AD51-40A7-9F11-BD7C0299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7B93F-9C02-4588-AF4D-8AF754A8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E578A-49F4-4E5C-BD0D-030C71E6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EAF48-97A3-422B-80A6-CA01A124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A3B8F-E6FC-4C48-9BC4-03B3319A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C2B-FA63-4C87-94FE-D1A9A50D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6E8CC-395C-4AF2-AC0F-5F948F5F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235C2-2F6D-4C5C-9022-13F637CE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56009-4944-41C2-BF10-57606100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A7F31-F470-466E-BD70-3E98DEA3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64CEE-2701-4103-95A5-9CA892E7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08B30-CD27-4892-85ED-EBA68545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946AD-7378-470E-8032-DEB4079B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9C082-4E99-4B5D-B2C7-26504D86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08678-041D-462C-8121-0780A15B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A571E-DA80-4161-B9DD-701326D0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E940-9BB6-40EC-B71A-C175772E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466AD-0F53-4BD8-9848-35E1D082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A7D90-DA2B-4C91-851C-4A25AA21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C1C79-8396-40BD-8D5F-66C2817B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D514F-75C8-4A97-8663-E2F45048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6859B-879D-4CC9-B560-5CDFD11D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BCE62-D124-437D-AFF9-527B0C2E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09494-4D42-4BFA-A910-DE6BBF38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6769C-DCFB-4F39-BED3-EA41BBC5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16C55-4456-4B4A-9431-35CAC816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A3047-8953-47CD-949A-D1D3FAEB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182E-46B1-4B24-8ABA-8F402162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CE370-1EA2-458A-9A25-D7E0F3A0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F7D8F-EA4F-4585-929D-6C79029B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FBB56-D781-4CDD-A022-D5EF568C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755CE-B449-4B90-BAF2-D00A88D8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AE742-6D0A-4344-BABC-706E947A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2EB3D-BCA5-4C48-AC1E-D1C619AB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9EDC4-757C-4B7D-A8D0-C0328CB9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CE0FF-0B9D-4722-88D1-77FD7CBD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840B1-3BBC-44A1-9E56-6276323C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C6B14-19CA-492C-8648-D5ED1291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1A6-BA4E-47C4-B553-BF4A4935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40A43-0DBC-464D-96C1-6ED80A31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B09B5-49B4-4AA2-B76B-D8CAAAAA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8CB3B-CD4A-400F-A838-E0A35376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96F15-069C-458C-BA0C-A111B91B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47F45-44B2-4A41-88D4-47954DE0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9904F-D47D-4231-BDBC-E0B30A3F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C7AF5-BDE0-40A7-9CC5-1A59FD48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184C-E896-4523-85D0-512051F1115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079C-A58D-4DBE-90DD-EC182DA8420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6DE4-3B31-45B6-BD6B-69C689BF9E5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7FD7-1E4C-49E2-A8E4-E4DC3135748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4674-0760-4D04-8C01-3A1C4716BCE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F937-9CA1-468C-8161-B7B1A782254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F58A-6411-4DC4-90DC-657606E5993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DBFB-11A9-458C-9C05-CD67EADF782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duplace.com/" TargetMode="External"/><Relationship Id="rId2" Type="http://schemas.openxmlformats.org/officeDocument/2006/relationships/hyperlink" Target="http://www.harcourtschool.com/" TargetMode="External"/><Relationship Id="rId3" Type="http://schemas.openxmlformats.org/officeDocument/2006/relationships/hyperlink" Target="http://www.studyisland.com/" TargetMode="External"/><Relationship Id="rId4" Type="http://schemas.openxmlformats.org/officeDocument/2006/relationships/hyperlink" Target="http://nlvm.usu.edu/en/nav/vLibrary.html" TargetMode="External"/><Relationship Id="rId5" Type="http://schemas.openxmlformats.org/officeDocument/2006/relationships/hyperlink" Target="http://kids.yahoo.com/reference/encyclopedia" TargetMode="External"/><Relationship Id="rId6" Type="http://schemas.openxmlformats.org/officeDocument/2006/relationships/hyperlink" Target="http://www.arbookfind.com/" TargetMode="External"/><Relationship Id="rId7" Type="http://schemas.openxmlformats.org/officeDocument/2006/relationships/hyperlink" Target="http://kids.discovery.com/" TargetMode="External"/><Relationship Id="rId8" Type="http://schemas.openxmlformats.org/officeDocument/2006/relationships/hyperlink" Target="http://pbskids.org/" TargetMode="External"/><Relationship Id="rId9" Type="http://schemas.openxmlformats.org/officeDocument/2006/relationships/hyperlink" Target="http://www2.scholastic.com/browse/index.jsp" TargetMode="External"/><Relationship Id="rId10" Type="http://schemas.openxmlformats.org/officeDocument/2006/relationships/hyperlink" Target="http://www.funbrain.com/" TargetMode="External"/><Relationship Id="rId11" Type="http://schemas.openxmlformats.org/officeDocument/2006/relationships/hyperlink" Target="http://www.teach-nology.com/" TargetMode="External"/><Relationship Id="rId12" Type="http://schemas.openxmlformats.org/officeDocument/2006/relationships/image" Target="../media/image9.png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thpodcast.com/videos/Basic_Math/4547AADD-A2C3-406A-97BF-200E09EF0D4A.html" TargetMode="External"/><Relationship Id="rId2" Type="http://schemas.openxmlformats.org/officeDocument/2006/relationships/hyperlink" Target="http://www.mathpodcast.com/videos/Basic_Math/D71AB87A-DE37-4792-801F-11C0DD1F1E7A.html" TargetMode="External"/><Relationship Id="rId3" Type="http://schemas.openxmlformats.org/officeDocument/2006/relationships/hyperlink" Target="http://www.mathpodcast.com/videos/Basic_Math/235A7C40-2021-4EDB-ADCE-EC7936825BBB.html" TargetMode="External"/><Relationship Id="rId4" Type="http://schemas.openxmlformats.org/officeDocument/2006/relationships/hyperlink" Target="http://www.mathpodcast.com/videos/Basic_Math/1E696DD3-EC2D-4BCA-9EF5-DABA9DEEF7D8.html" TargetMode="External"/><Relationship Id="rId5" Type="http://schemas.openxmlformats.org/officeDocument/2006/relationships/hyperlink" Target="http://www.mathpodcast.com/videos/Algebra/BCC07425-9A13-4013-B874-39724551DECD.html" TargetMode="External"/><Relationship Id="rId6" Type="http://schemas.openxmlformats.org/officeDocument/2006/relationships/image" Target="../media/image10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questgarden.com/45/45/7/070105182037/index.htm" TargetMode="External"/><Relationship Id="rId2" Type="http://schemas.openxmlformats.org/officeDocument/2006/relationships/hyperlink" Target="http://www.ldcsb.on.ca/schools/cfe/rpt/RPT_Welcome/student.html" TargetMode="External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907920"/>
            <a:ext cx="7785000" cy="1920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3520" y="4190760"/>
            <a:ext cx="7772400" cy="119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64646"/>
                </a:solidFill>
                <a:latin typeface="Lucida Sans Unicode"/>
              </a:rPr>
              <a:t>LaKeisha Hood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46"/>
                </a:solidFill>
                <a:latin typeface="Lucida Sans Unicode"/>
              </a:rPr>
              <a:t>Course: EIT 640 Integration of Technology and Computer Application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46"/>
                </a:solidFill>
                <a:latin typeface="Lucida Sans Unicode"/>
              </a:rPr>
              <a:t>November 16, 2008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523880" y="3246480"/>
          <a:ext cx="6096240" cy="365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3" name="Picture 4" descr="http://tbn0.google.com/images?q=tbn:stBJvfSUXy1R1M:http://www.lauras-playground.com/OA5X1239.JPG"/>
          <p:cNvPicPr/>
          <p:nvPr/>
        </p:nvPicPr>
        <p:blipFill>
          <a:blip r:embed="rId2"/>
          <a:stretch/>
        </p:blipFill>
        <p:spPr>
          <a:xfrm>
            <a:off x="304920" y="2362320"/>
            <a:ext cx="274320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urriculum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Houghton Mifflin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eduplace.com/</a:t>
            </a:r>
            <a:br>
              <a:rPr sz="7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Harcourt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harcourtschool.com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ath &amp; Language Arts Suppor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tudy Island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studyisland.com/ 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Virtual Manipulatives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nlvm.usu.edu/en/nav/vLibrary.html </a:t>
            </a:r>
            <a:br>
              <a:rPr sz="700"/>
            </a:b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Encyclopedia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kids.yahoo.com/reference/encyclopedi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ccelerated Reader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http://www.arbookfind.com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un and Educationa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Discovery Kids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7"/>
              </a:rPr>
              <a:t>http://kids.discovery.com/</a:t>
            </a:r>
            <a:br>
              <a:rPr sz="7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PBS Kids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8"/>
              </a:rPr>
              <a:t>http://pbskids.org/</a:t>
            </a:r>
            <a:br>
              <a:rPr sz="7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cholastics Book Club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9"/>
              </a:rPr>
              <a:t>http://www2.scholastic.com/browse/index.jsp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Funbrain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10"/>
              </a:rPr>
              <a:t>http://www.funbrain.com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echnology Base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each-nology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11"/>
              </a:rPr>
              <a:t>http://www.teach-nology.com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2"/>
          <a:stretch/>
        </p:blipFill>
        <p:spPr>
          <a:xfrm>
            <a:off x="195120" y="146160"/>
            <a:ext cx="8498160" cy="1280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1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Converting fractions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mathpodcast.com/videos/Basic_Math/4547AADD-A2C3-406A-97BF-200E09EF0D4A.html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Equalities and inequalities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mathpodcast.com/videos/Basic_Math/D71AB87A-DE37-4792-801F-11C0DD1F1E7A.html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LCD and Fraction Conversions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mathpodcast.com/videos/Basic_Math/235A7C40-2021-4EDB-ADCE-EC7936825BBB.html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Division of Fractions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mathpodcast.com/videos/Basic_Math/1E696DD3-EC2D-4BCA-9EF5-DABA9DEEF7D8.html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Algebra-Geometry formulas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www.mathpodcast.com/videos/Algebra/BCC07425-9A13-4013-B874-39724551DECD.html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6"/>
          <a:stretch/>
        </p:blipFill>
        <p:spPr>
          <a:xfrm>
            <a:off x="231840" y="171360"/>
            <a:ext cx="8461440" cy="125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7" name="chimes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Birthday Party-Math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questgarden.com/45/45/7/070105182037/index.htm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Welcome to our Classroom- LA/Lifeskills/Math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ldcsb.on.ca/schools/cfe/rpt/RPT_Welcome/student.html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Trip to the Big Apple- Math http://www.webquest.org/questgarden/lessons/14325-060312202119/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Shopping Spree -Math http://216.101.58.17/ms/lnelson/Shopping%20Webquest/4Shopping%20Process.htm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How would YOU stop a Bully- Language Arts http://questgarden.com/45/47/5/070105150727/process.htm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Rich Assessment Task Force- Math/ Language Arts http://www.ldcsb.on.ca/schools/cfe/rpt/RPT_Future_School/student.html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3"/>
          <a:stretch/>
        </p:blipFill>
        <p:spPr>
          <a:xfrm>
            <a:off x="225360" y="165240"/>
            <a:ext cx="8467920" cy="1261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3"/>
          <p:cNvSpPr/>
          <p:nvPr/>
        </p:nvSpPr>
        <p:spPr>
          <a:xfrm>
            <a:off x="1447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3809880" y="2666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990720" y="42670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6"/>
          <p:cNvSpPr/>
          <p:nvPr/>
        </p:nvSpPr>
        <p:spPr>
          <a:xfrm>
            <a:off x="3352680" y="55627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to Cam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1562400" cy="1400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3"/>
          <a:stretch/>
        </p:blipFill>
        <p:spPr>
          <a:xfrm>
            <a:off x="6248520" y="1523880"/>
            <a:ext cx="1403280" cy="1751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4"/>
          <a:stretch/>
        </p:blipFill>
        <p:spPr>
          <a:xfrm>
            <a:off x="3124080" y="3505320"/>
            <a:ext cx="1295640" cy="1422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"/>
          <p:cNvPicPr/>
          <p:nvPr/>
        </p:nvPicPr>
        <p:blipFill>
          <a:blip r:embed="rId5"/>
          <a:stretch/>
        </p:blipFill>
        <p:spPr>
          <a:xfrm>
            <a:off x="6629400" y="3711600"/>
            <a:ext cx="2030400" cy="2612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6" name="chimes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odge, B. (1995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Webquest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Retrieved from www.webquests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March, T. (1995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Webquest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Retrieved from www.webquests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Lowe, P. (2005, May 10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Teacher Designed Webpages as a Classroom Tool.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Retrieved from http://my-ecoach.com/online/webresourcelist.php?rlid=574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oward Pitler, E. R. (2007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Using Technology with Classroom Instruction That Works.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Association for Supervision &amp; Curriculum Development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ockstader, J. ( 1999 ). See more articles from T H E Journal (Technological Horizons In Education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T H E Journal (Technological Horizons In Education)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ontent Placeholder 1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6:56:52Z</dcterms:created>
  <dc:creator>Guest</dc:creator>
  <dc:description/>
  <dc:language>en-US</dc:language>
  <cp:lastModifiedBy>Guest</cp:lastModifiedBy>
  <dcterms:modified xsi:type="dcterms:W3CDTF">2008-11-15T17:42:01Z</dcterms:modified>
  <cp:revision>21</cp:revision>
  <dc:subject/>
  <dc:title>Ms. Hood’s Classroom Webpage</dc:title>
</cp:coreProperties>
</file>