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8.jpeg" ContentType="image/jpeg"/>
  <Override PartName="/ppt/media/image1.png" ContentType="image/png"/>
  <Override PartName="/ppt/media/image3.png" ContentType="image/png"/>
  <Override PartName="/ppt/media/image5.jpeg" ContentType="image/jpeg"/>
  <Override PartName="/ppt/media/image16.jpeg" ContentType="image/jpeg"/>
  <Override PartName="/ppt/media/chimes.wav" ContentType="audio/x-wav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D48-C04D-48FF-A779-59000F0A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EDD-772F-44B0-AB84-CBC34BED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F39-1A1C-481D-99F5-45B9B0E6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112B-6B60-4305-8716-1F82E799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B06A-D278-4C4E-8954-2F78B271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FA58-F776-468E-AAB5-C4910FFD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F6B4-280A-4E60-91ED-6CB4B906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14D8-A683-4E53-A96E-2DBCFB6D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B6FC-EEFC-4C7A-B2ED-2DE9982F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0FB4-DF7C-460F-A7DE-7776620D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0CAC-269C-415A-9259-814C5237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26E-C063-4A3A-BF95-8A82B1E1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490F-BD22-4C79-B0BF-9BD3AD5E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5257-152F-4447-92A1-6D3A212A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2476-DBDE-483D-AF68-06AF5CAE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D7B3-2E9F-4B6B-9454-DC31AC85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4D26-BAF6-487F-9FB6-FF4D0D3D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13CD9-8A48-40A7-8CF1-F9971D0E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F9574-EFE2-49C8-AB3F-C91C91CA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F9B39-1535-4338-B6F1-F5821AE7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6EC2A-B86B-4910-80D9-2C08C57B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BE8EF-14DA-4E62-8012-7831BB96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848-8D5C-42BE-BD7F-807C89E9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24FE9-66C0-45C5-A58E-88B510A3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AB6A3-9380-4088-B567-FECCA0DD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63B8C-E4D4-4B11-B842-64B66F9F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15EE6-9FB5-44E3-95B1-35F40B1D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FA22E-ED4F-49E6-B229-A92A9049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EB088-73A2-438B-A959-BA10EEE9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05656-8058-41A4-9142-4597BAD0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1A06D-903D-447F-8FF9-017F4541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DF107-79FF-4344-8C05-C150BD82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22689-4582-4B91-A112-EA432413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140-DB4D-4C45-BE12-C65CAE47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A199F-7E78-483C-B097-A007E1AB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4FA53-27C2-4E7C-AA47-8903FE1A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62524-6734-44AE-8B25-A5F5F8D0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307BA-CAC5-4417-9EA3-63B95880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72509-46E2-4393-9BC4-5A048AE6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66D34-D6C5-4D5B-B986-24009944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604E8-BB49-45DF-BC73-10D288BF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5C97B-85E1-442E-96C6-934683BF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E188C-473E-49EA-B05A-FB226B6C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F9707-2AE0-4627-9BC9-23DD49A1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83A-85D3-4A03-9186-F5EF453E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62784-F6BC-477B-ABB6-099E8A1D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C639E-1938-488F-BE4C-7CEC5B5B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B0C26-6014-44C0-8703-FD18AE11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24182-D916-4FD6-8E34-3DE6C1E8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E0E56-D045-4834-A114-ACE58710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331B9-5D99-416D-A04C-4534046B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13BEF-1FA9-4B7A-B2DA-7A4C79B1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F6A43-5040-4E01-BF29-A3DDEE2D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9F3CD-F3AB-4A1D-A837-6CB09B35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1CD50-FEB1-4E1F-9552-782C18FD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C10-72C5-4E0B-8D29-3C28B27B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1933E-0C0E-4A77-AA55-1175971D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A2D33-A148-4003-B0A5-2B8C6702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2AADD-E917-4CDB-84CA-F8F170A0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3BEC0-B2E4-49CC-BBB5-F89FF0FE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AF487-4588-4880-927D-6DCBE7E9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4630F-DCA2-4AB7-B43A-BBE675FF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01C29-ADA5-4C85-A029-396BAB80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27CE7-383B-4622-8751-93AC7051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0B3CA-9D92-4731-A748-995DE3A7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C170D-52C9-4474-A6DD-91EB69DD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AB3-803B-4DAB-B045-810CFBC9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CB731-488D-4924-8453-2503B6C8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383C6-AADB-4F26-8A5B-ED305C61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B9938-F7A7-44E0-B3AC-FD5C0AD0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E897A-5999-4AD5-84F8-1FF36E4A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8D4C8-1B67-444C-989E-94DBF4B9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82A22-4F4B-4275-9E61-23F7A6BA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3A666-6EB4-41FC-8405-47E5C059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FE6C8-AC2A-4307-A9E6-F4C85B12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30B9D-9545-4BAA-BCFD-6B917BDE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D0A5C-DAD2-4491-80FE-97A24C12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361D-3AF9-4CCD-9366-B8AE11ED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9E92D-D1B0-453F-8C5F-32CEE551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5FAAF-57E3-43BB-968D-E42A11E2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66E10-D88B-4824-B38F-CFA9D3AF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CE77B-EA9D-43EC-923A-D951DC23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1265D-4FFA-4B99-9C8D-B61D0C99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FFB69-9672-4287-B7A7-4289E4BD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F4803-A983-49D1-9156-E1049221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8AD8E-941A-4299-B99E-53B2F74E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B6474-8F43-4312-8348-828B050E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03A74-361B-48CE-AA5B-20DC2257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B85-6723-4D9B-87AF-5E0324E6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B9B58-E82E-4BCD-B214-173704C4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6F72E-A2A7-41F0-A1F1-5327F007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96992-58A8-46B8-9048-A18930BC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4C6D7-60B8-4FAC-89B6-36DCB38E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CAC05-F711-46B7-B9BC-59314F1B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89040-AB65-44C8-BD44-45857E19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3A5BE-8706-40ED-95A0-D90ACF05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0E21-6F2F-4A89-9641-BD2D2FB2F87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2C6D-1E72-41DD-89CF-07DBC2C3F55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1E7C-1539-4EB0-9F16-AC24BC5BB34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B0C3-2D40-4C1D-BA97-797692F1390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304D-C399-4CD4-8254-E0FA310455B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32F0-1314-4D42-99F9-D3EF4F20ED8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C67B-3ABA-4265-ABC8-8D0CDE32CA7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5B62-8DC0-47D7-8159-C98BF3F8709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duplace.com/" TargetMode="External"/><Relationship Id="rId2" Type="http://schemas.openxmlformats.org/officeDocument/2006/relationships/hyperlink" Target="http://www.harcourtschool.com/" TargetMode="External"/><Relationship Id="rId3" Type="http://schemas.openxmlformats.org/officeDocument/2006/relationships/hyperlink" Target="http://www.studyisland.com/" TargetMode="External"/><Relationship Id="rId4" Type="http://schemas.openxmlformats.org/officeDocument/2006/relationships/hyperlink" Target="http://nlvm.usu.edu/en/nav/vLibrary.html" TargetMode="External"/><Relationship Id="rId5" Type="http://schemas.openxmlformats.org/officeDocument/2006/relationships/hyperlink" Target="http://kids.yahoo.com/reference/encyclopedia" TargetMode="External"/><Relationship Id="rId6" Type="http://schemas.openxmlformats.org/officeDocument/2006/relationships/hyperlink" Target="http://www.arbookfind.com/" TargetMode="External"/><Relationship Id="rId7" Type="http://schemas.openxmlformats.org/officeDocument/2006/relationships/hyperlink" Target="http://kids.discovery.com/" TargetMode="External"/><Relationship Id="rId8" Type="http://schemas.openxmlformats.org/officeDocument/2006/relationships/hyperlink" Target="http://pbskids.org/" TargetMode="External"/><Relationship Id="rId9" Type="http://schemas.openxmlformats.org/officeDocument/2006/relationships/hyperlink" Target="http://www2.scholastic.com/browse/index.jsp" TargetMode="External"/><Relationship Id="rId10" Type="http://schemas.openxmlformats.org/officeDocument/2006/relationships/hyperlink" Target="http://www.funbrain.com/" TargetMode="External"/><Relationship Id="rId11" Type="http://schemas.openxmlformats.org/officeDocument/2006/relationships/hyperlink" Target="http://www.teach-nology.com/" TargetMode="External"/><Relationship Id="rId12" Type="http://schemas.openxmlformats.org/officeDocument/2006/relationships/image" Target="../media/image9.png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thpodcast.com/videos/Basic_Math/4547AADD-A2C3-406A-97BF-200E09EF0D4A.html" TargetMode="External"/><Relationship Id="rId2" Type="http://schemas.openxmlformats.org/officeDocument/2006/relationships/hyperlink" Target="http://www.mathpodcast.com/videos/Basic_Math/D71AB87A-DE37-4792-801F-11C0DD1F1E7A.html" TargetMode="External"/><Relationship Id="rId3" Type="http://schemas.openxmlformats.org/officeDocument/2006/relationships/hyperlink" Target="http://www.mathpodcast.com/videos/Basic_Math/235A7C40-2021-4EDB-ADCE-EC7936825BBB.html" TargetMode="External"/><Relationship Id="rId4" Type="http://schemas.openxmlformats.org/officeDocument/2006/relationships/hyperlink" Target="http://www.mathpodcast.com/videos/Basic_Math/1E696DD3-EC2D-4BCA-9EF5-DABA9DEEF7D8.html" TargetMode="External"/><Relationship Id="rId5" Type="http://schemas.openxmlformats.org/officeDocument/2006/relationships/hyperlink" Target="http://www.mathpodcast.com/videos/Algebra/BCC07425-9A13-4013-B874-39724551DECD.html" TargetMode="External"/><Relationship Id="rId6" Type="http://schemas.openxmlformats.org/officeDocument/2006/relationships/image" Target="../media/image10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questgarden.com/45/45/7/070105182037/index.htm" TargetMode="External"/><Relationship Id="rId2" Type="http://schemas.openxmlformats.org/officeDocument/2006/relationships/hyperlink" Target="http://www.ldcsb.on.ca/schools/cfe/rpt/RPT_Welcome/student.html" TargetMode="External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907920"/>
            <a:ext cx="7785000" cy="1920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3520" y="4190760"/>
            <a:ext cx="7772400" cy="119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64646"/>
                </a:solidFill>
                <a:latin typeface="Lucida Sans Unicode"/>
              </a:rPr>
              <a:t>LaKeisha Hood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46"/>
                </a:solidFill>
                <a:latin typeface="Lucida Sans Unicode"/>
              </a:rPr>
              <a:t>Course: EIT 640 Integration of Technology and Computer Application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46"/>
                </a:solidFill>
                <a:latin typeface="Lucida Sans Unicode"/>
              </a:rPr>
              <a:t>November 16, 2008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523880" y="3246480"/>
          <a:ext cx="6096240" cy="365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Picture 4" descr="http://tbn0.google.com/images?q=tbn:stBJvfSUXy1R1M:http://www.lauras-playground.com/OA5X1239.JPG"/>
          <p:cNvPicPr/>
          <p:nvPr/>
        </p:nvPicPr>
        <p:blipFill>
          <a:blip r:embed="rId2"/>
          <a:stretch/>
        </p:blipFill>
        <p:spPr>
          <a:xfrm>
            <a:off x="304920" y="2362320"/>
            <a:ext cx="274320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urriculu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Houghton Mifflin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eduplace.com/</a:t>
            </a:r>
            <a:br>
              <a:rPr sz="7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Harcourt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harcourtschool.com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ath &amp; Language Arts Suppor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tudy Island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studyisland.com/ 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Virtual Manipulatives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nlvm.usu.edu/en/nav/vLibrary.html </a:t>
            </a:r>
            <a:br>
              <a:rPr sz="700"/>
            </a:b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Encyclopedia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kids.yahoo.com/reference/encyclopedi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ccelerated Reader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http://www.arbookfind.com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un and Educationa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Discovery Kids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7"/>
              </a:rPr>
              <a:t>http://kids.discovery.com/</a:t>
            </a:r>
            <a:br>
              <a:rPr sz="7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PBS Kids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8"/>
              </a:rPr>
              <a:t>http://pbskids.org/</a:t>
            </a:r>
            <a:br>
              <a:rPr sz="7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cholastics Book Club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9"/>
              </a:rPr>
              <a:t>http://www2.scholastic.com/browse/index.jsp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Funbrain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10"/>
              </a:rPr>
              <a:t>http://www.funbrain.com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echnology Base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each-nology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11"/>
              </a:rPr>
              <a:t>http://www.teach-nology.com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2"/>
          <a:stretch/>
        </p:blipFill>
        <p:spPr>
          <a:xfrm>
            <a:off x="195120" y="146160"/>
            <a:ext cx="8498160" cy="1280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1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Converting fractions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mathpodcast.com/videos/Basic_Math/4547AADD-A2C3-406A-97BF-200E09EF0D4A.html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Equalities and inequalities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mathpodcast.com/videos/Basic_Math/D71AB87A-DE37-4792-801F-11C0DD1F1E7A.html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LCD and Fraction Conversions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mathpodcast.com/videos/Basic_Math/235A7C40-2021-4EDB-ADCE-EC7936825BBB.html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Division of Fractions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mathpodcast.com/videos/Basic_Math/1E696DD3-EC2D-4BCA-9EF5-DABA9DEEF7D8.html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Algebra-Geometry formulas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www.mathpodcast.com/videos/Algebra/BCC07425-9A13-4013-B874-39724551DECD.html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6"/>
          <a:stretch/>
        </p:blipFill>
        <p:spPr>
          <a:xfrm>
            <a:off x="231840" y="171360"/>
            <a:ext cx="8461440" cy="125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7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Birthday Party-Math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questgarden.com/45/45/7/070105182037/index.htm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Welcome to our Classroom- LA/Lifeskills/Math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ldcsb.on.ca/schools/cfe/rpt/RPT_Welcome/student.html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Trip to the Big Apple- Math http://www.webquest.org/questgarden/lessons/14325-060312202119/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Shopping Spree -Math http://216.101.58.17/ms/lnelson/Shopping%20Webquest/4Shopping%20Process.htm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How would YOU stop a Bully- Language Arts http://questgarden.com/45/47/5/070105150727/process.htm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Rich Assessment Task Force- Math/ Language Arts http://www.ldcsb.on.ca/schools/cfe/rpt/RPT_Future_School/student.html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3"/>
          <a:stretch/>
        </p:blipFill>
        <p:spPr>
          <a:xfrm>
            <a:off x="225360" y="165240"/>
            <a:ext cx="8467920" cy="1261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3"/>
          <p:cNvSpPr/>
          <p:nvPr/>
        </p:nvSpPr>
        <p:spPr>
          <a:xfrm>
            <a:off x="1447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3809880" y="2666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990720" y="42670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6"/>
          <p:cNvSpPr/>
          <p:nvPr/>
        </p:nvSpPr>
        <p:spPr>
          <a:xfrm>
            <a:off x="3352680" y="55627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to Cam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1562400" cy="1400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3"/>
          <a:stretch/>
        </p:blipFill>
        <p:spPr>
          <a:xfrm>
            <a:off x="6248520" y="1523880"/>
            <a:ext cx="1403280" cy="1751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4"/>
          <a:stretch/>
        </p:blipFill>
        <p:spPr>
          <a:xfrm>
            <a:off x="3124080" y="3505320"/>
            <a:ext cx="1295640" cy="1422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"/>
          <p:cNvPicPr/>
          <p:nvPr/>
        </p:nvPicPr>
        <p:blipFill>
          <a:blip r:embed="rId5"/>
          <a:stretch/>
        </p:blipFill>
        <p:spPr>
          <a:xfrm>
            <a:off x="6629400" y="3711600"/>
            <a:ext cx="2030400" cy="2612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6" name="chimes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odge, B. (1995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Webquest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Retrieved from www.webquests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March, T. (1995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Webquest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Retrieved from www.webquests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Lowe, P. (2005, May 10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Teacher Designed Webpages as a Classroom Tool.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Retrieved from http://my-ecoach.com/online/webresourcelist.php?rlid=574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oward Pitler, E. R. (2007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Using Technology with Classroom Instruction That Works.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Association for Supervision &amp; Curriculum Development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ockstader, J. ( 1999 ). See more articles from T H E Journal (Technological Horizons In Education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T H E Journal (Technological Horizons In Education)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ontent Placeholder 1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6:56:52Z</dcterms:created>
  <dc:creator>Guest</dc:creator>
  <dc:description/>
  <dc:language>en-US</dc:language>
  <cp:lastModifiedBy>Guest</cp:lastModifiedBy>
  <dcterms:modified xsi:type="dcterms:W3CDTF">2008-11-15T17:42:01Z</dcterms:modified>
  <cp:revision>21</cp:revision>
  <dc:subject/>
  <dc:title>Ms. Hood’s Classroom Webpage</dc:title>
</cp:coreProperties>
</file>