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16.jpeg" ContentType="image/jpeg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FB6-7007-4F13-BA89-921E4590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B22-424E-4CA5-A630-CA8E84E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8BF-EFB7-4D92-8B92-6C446CFC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9C2-6EE7-4455-85ED-9CEBDA20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B25B-6E23-41BE-B53B-FB7AD44E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DA4-7898-473B-BE4A-C7AA169A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CBA-CB06-471C-9F1A-4A326382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46C-89F4-483B-B33B-565FC12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8A86-494B-4581-8DA9-4D8C9C1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5FEF-20B7-4FB9-A8DB-1A60BA0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3E30-A29F-4998-B53C-4506639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FC4-53C9-4AF4-8FBE-0E9BFEF2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1FA-CF6E-4EB8-A5AB-66C5602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8FC4-1E20-42D8-A4C8-E55A04F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E643-EC06-42D4-A9F5-540DCCB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B696-A537-457C-A8A6-281F104C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945-4FC8-4541-A37F-763F7092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FAAE-B58D-4DF8-AD6A-732C4202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DDC1-A32E-43F0-BA40-18CA4196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58F7-D925-41DA-B5A1-F10EB654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0868-E11F-41D1-9274-8D2B7E0E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75E5-9ACE-4471-BA87-29003955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E76-43E1-4750-8594-ED2E94D0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BBA8-2100-4BED-833F-39B04C48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011D-B4C0-47E1-BFD7-CCEFE57A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9A61-851F-4BFA-B474-4DA38F1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9C3B-04C1-4C8B-8BDF-F055075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3619-06D3-4753-BDCB-A095953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4A2D-2C5A-41DE-A2D7-18A6FA22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360A-D5E1-4AD8-BF3E-96729507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B4B2-5356-4A94-B18E-E26B09D8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725D-1CDF-4BAA-A799-392BDE9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6D57-A0CE-4C2B-8A00-12C3FA3C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133-FF42-4D3B-8F12-796C6E6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DF35-B734-42C3-828C-4D01D09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F381-B0DA-46F2-B3F4-C8BBA55C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9235-1BFE-4000-8436-E90A0205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EED4-E465-411C-A6BD-898B902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43CB-726A-438B-82DD-A105C74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A48B6-61DB-40A5-BFB2-D30E9F2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6489-C04A-4EA3-B776-91BA23BD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7734-E7F7-4B73-982C-B88FCA1E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97F51-8B2B-4677-B0B9-9C7E6626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7A47-E610-4239-BBBF-D6854E5E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7D7-C90F-4188-A852-7228CD9E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364F-3B75-4927-914E-109978A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9B269-0E89-4A69-B3C8-F4A1F01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96E13-BF68-4C88-BAAA-419E91EE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8AA8-928C-4ACD-864D-BEC2AB07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9024-BBA5-42FC-834F-89236FA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C1305-DAE8-4A92-9C8A-92678CFE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8982-9539-4424-BE6B-60B9C57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3B06-8B77-4F39-B66A-EC3896E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5761-7DC6-4613-9AC4-83FEB4A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99637-9D2D-4684-90FB-8C74B239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DB7-F29A-4690-9524-C397E538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F215-870C-4E05-B856-1B7EEADE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8711-DFC7-404F-86BB-4905312C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929F-AFF3-48C1-9F05-0FB0FCA9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5847D-FB2F-4F9D-B0FE-ADEF1C4C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B005-8BAA-4D0C-A697-DBA4D49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22EB-C670-4E3F-B4F8-F7128DA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7E137-D81E-4485-8E4D-9A6F924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D333-3088-4E54-83E7-D8C6553A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1206-5D20-474E-A092-1D010C19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3D109-5A1A-44F8-A45A-4D59B0DF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D42-3F80-47BE-9832-81D2D1EC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23C6-07FE-461F-A068-E8464C07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225F-45C7-4C9F-9C16-B928A723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F6E9C-59AD-4AA1-A69E-C4EA1A31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AC47-C129-44CF-9AD5-724642D9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6186-EE6E-4BC7-92CE-7AC3CEF8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4F97-EE1C-4533-8928-5AA49B0A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9570-3D1C-4E58-AF1A-BD815AD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E39B-724E-4BF8-822C-7F29CB3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5942-AADF-468B-98E9-25039F7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1505-2F4B-4B4A-BFAE-A098E9C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DC9-1D07-4597-9A6C-E190BEF0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CFCF-21BF-4177-AECF-8D95B69E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CCD4-6776-4CCF-9C85-7093EC8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74FB-FBF6-4F5F-8F60-EC3CC2C7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BAB3A-2D23-4518-8D96-BA16FFA9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5999-95A0-49D9-9A08-87899C73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E3B06-FD8F-4676-85F0-134F8C0C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58236-EC1F-466A-847A-2AF01BFE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6960-5F7A-4F5A-AA9D-C05EC06D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FC02-7FF7-4265-9B4C-F1898249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02B4-0559-42BC-9137-164F202A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70D-6ACD-4DCD-BFA9-77C58AB0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AC45-1EC1-4D75-A786-AF5DF68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8D534-692B-4C88-9477-AE38324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CE17A-7462-43F0-871D-A665A31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3071A-C917-4B6F-B683-EF20310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55995-94C8-4B24-8180-9564AD18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6A453-7E70-4C57-ADEE-5CB375D8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F3A7-1F3B-4552-8E15-74CE3106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BA2-F135-4101-8D4B-611CE8671A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EE0-66F7-4654-BEB6-B34B735265C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F48-1B9E-4DBB-9163-34AC1B9A821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985-0C1B-4059-9159-4EFCCD68361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992E-50BF-4B35-AA67-0AD3E8810B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258-7240-4319-A990-1A6C0641D40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2EE-1627-4BFF-9529-B519EB8CA5F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AFF6-F89D-4E04-B4A3-82439E468C8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uplace.com/" TargetMode="External"/><Relationship Id="rId2" Type="http://schemas.openxmlformats.org/officeDocument/2006/relationships/hyperlink" Target="http://www.harcourtschool.com/" TargetMode="External"/><Relationship Id="rId3" Type="http://schemas.openxmlformats.org/officeDocument/2006/relationships/hyperlink" Target="http://www.studyisland.com/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hyperlink" Target="http://kids.yahoo.com/reference/encyclopedia" TargetMode="External"/><Relationship Id="rId6" Type="http://schemas.openxmlformats.org/officeDocument/2006/relationships/hyperlink" Target="http://www.arbookfind.com/" TargetMode="External"/><Relationship Id="rId7" Type="http://schemas.openxmlformats.org/officeDocument/2006/relationships/hyperlink" Target="http://kids.discovery.com/" TargetMode="External"/><Relationship Id="rId8" Type="http://schemas.openxmlformats.org/officeDocument/2006/relationships/hyperlink" Target="http://pbskids.org/" TargetMode="External"/><Relationship Id="rId9" Type="http://schemas.openxmlformats.org/officeDocument/2006/relationships/hyperlink" Target="http://www2.scholastic.com/browse/index.jsp" TargetMode="External"/><Relationship Id="rId10" Type="http://schemas.openxmlformats.org/officeDocument/2006/relationships/hyperlink" Target="http://www.funbrain.com/" TargetMode="External"/><Relationship Id="rId11" Type="http://schemas.openxmlformats.org/officeDocument/2006/relationships/hyperlink" Target="http://www.teach-nology.com/" TargetMode="External"/><Relationship Id="rId12" Type="http://schemas.openxmlformats.org/officeDocument/2006/relationships/image" Target="../media/image9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podcast.com/videos/Basic_Math/4547AADD-A2C3-406A-97BF-200E09EF0D4A.html" TargetMode="External"/><Relationship Id="rId2" Type="http://schemas.openxmlformats.org/officeDocument/2006/relationships/hyperlink" Target="http://www.mathpodcast.com/videos/Basic_Math/D71AB87A-DE37-4792-801F-11C0DD1F1E7A.html" TargetMode="External"/><Relationship Id="rId3" Type="http://schemas.openxmlformats.org/officeDocument/2006/relationships/hyperlink" Target="http://www.mathpodcast.com/videos/Basic_Math/235A7C40-2021-4EDB-ADCE-EC7936825BBB.html" TargetMode="External"/><Relationship Id="rId4" Type="http://schemas.openxmlformats.org/officeDocument/2006/relationships/hyperlink" Target="http://www.mathpodcast.com/videos/Basic_Math/1E696DD3-EC2D-4BCA-9EF5-DABA9DEEF7D8.html" TargetMode="External"/><Relationship Id="rId5" Type="http://schemas.openxmlformats.org/officeDocument/2006/relationships/hyperlink" Target="http://www.mathpodcast.com/videos/Algebra/BCC07425-9A13-4013-B874-39724551DECD.html" TargetMode="External"/><Relationship Id="rId6" Type="http://schemas.openxmlformats.org/officeDocument/2006/relationships/image" Target="../media/image1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questgarden.com/45/45/7/070105182037/index.htm" TargetMode="External"/><Relationship Id="rId2" Type="http://schemas.openxmlformats.org/officeDocument/2006/relationships/hyperlink" Target="http://www.ldcsb.on.ca/schools/cfe/rpt/RPT_Welcome/student.html" TargetMode="Externa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1920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19076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64646"/>
                </a:solidFill>
                <a:latin typeface="Lucida Sans Unicode"/>
              </a:rPr>
              <a:t>LaKeisha Hood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Course: EIT 640 Integration of Technology and Computer Application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Lucida Sans Unicode"/>
              </a:rPr>
              <a:t>November 16, 2008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3880" y="3246480"/>
          <a:ext cx="6096240" cy="365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" descr="http://tbn0.google.com/images?q=tbn:stBJvfSUXy1R1M:http://www.lauras-playground.com/OA5X1239.JPG"/>
          <p:cNvPicPr/>
          <p:nvPr/>
        </p:nvPicPr>
        <p:blipFill>
          <a:blip r:embed="rId2"/>
          <a:stretch/>
        </p:blipFill>
        <p:spPr>
          <a:xfrm>
            <a:off x="304920" y="23623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rriculu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oughton Miffl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place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arcourt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arcourtschool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th &amp; Language Arts Suppo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tudy Island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tudyisland.com/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Virtual Manipulative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nlvm.usu.edu/en/nav/vLibrary.html </a:t>
            </a:r>
            <a:br>
              <a:rPr sz="700"/>
            </a:b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Encyclopedia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kids.yahoo.com/reference/encyclopedi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ccelerated Reader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http://www.arbookfind.com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un and Educ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iscovery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http://kids.discovery.com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BS Kids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http://pbskids.org/</a:t>
            </a:r>
            <a:br>
              <a:rPr sz="7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cholastics Book Club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http://www2.scholastic.com/browse/index.js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unbrain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http://www.funbrain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echnology Base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each-nology </a:t>
            </a:r>
            <a:r>
              <a:rPr b="0" lang="en-US" sz="12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http://www.teach-nology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2"/>
          <a:stretch/>
        </p:blipFill>
        <p:spPr>
          <a:xfrm>
            <a:off x="195120" y="146160"/>
            <a:ext cx="8498160" cy="1280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nverting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athpodcast.com/videos/Basic_Math/4547AADD-A2C3-406A-97BF-200E09EF0D4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Equalities and inequalitie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mathpodcast.com/videos/Basic_Math/D71AB87A-DE37-4792-801F-11C0DD1F1E7A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LCD and Fraction Convers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athpodcast.com/videos/Basic_Math/235A7C40-2021-4EDB-ADCE-EC7936825BBB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ivision of Fraction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mathpodcast.com/videos/Basic_Math/1E696DD3-EC2D-4BCA-9EF5-DABA9DEEF7D8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Algebra-Geometry formulas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mathpodcast.com/videos/Algebra/BCC07425-9A13-4013-B874-39724551DECD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6"/>
          <a:stretch/>
        </p:blipFill>
        <p:spPr>
          <a:xfrm>
            <a:off x="231840" y="171360"/>
            <a:ext cx="846144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Birthday Party-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questgarden.com/45/45/7/070105182037/index.htm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elcome to our Classroom- LA/Lifeskills/Math </a:t>
            </a:r>
            <a:r>
              <a:rPr b="0" lang="en-US" sz="1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ldcsb.on.ca/schools/cfe/rpt/RPT_Welcome/student.html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Trip to the Big Apple- Math http://www.webquest.org/questgarden/lessons/14325-060312202119/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hopping Spree -Math http://216.101.58.17/ms/lnelson/Shopping%20Webquest/4Shopping%20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How would YOU stop a Bully- Language Arts http://questgarden.com/45/47/5/070105150727/process.htm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Rich Assessment Task Force- Math/ Language Arts http://www.ldcsb.on.ca/schools/cfe/rpt/RPT_Future_School/student.htm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3"/>
          <a:stretch/>
        </p:blipFill>
        <p:spPr>
          <a:xfrm>
            <a:off x="225360" y="165240"/>
            <a:ext cx="846792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1447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3809880" y="2666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990720" y="4267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3352680" y="5562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1562400" cy="1400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403280" cy="175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3124080" y="3505320"/>
            <a:ext cx="1295640" cy="142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5"/>
          <a:stretch/>
        </p:blipFill>
        <p:spPr>
          <a:xfrm>
            <a:off x="6629400" y="3711600"/>
            <a:ext cx="203040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6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dge, B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rch, T. (199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Webques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Retrieved from www.webquests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we, P. (2005, May 10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eacher Designed Webpages as a Classroom Tool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Retrieved from http://my-ecoach.com/online/webresourcelist.php?rlid=574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ard Pitler, E. R. (2007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Using Technology with Classroom Instruction That Works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Association for Supervision &amp; Curriculum Developm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ockstader, J. ( 1999 ). See more articles from T H E Journal (Technological Horizons In Education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T H E Journal (Technological Horizons In Education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6:56:52Z</dcterms:created>
  <dc:creator>Guest</dc:creator>
  <dc:description/>
  <dc:language>en-US</dc:language>
  <cp:lastModifiedBy>Guest</cp:lastModifiedBy>
  <dcterms:modified xsi:type="dcterms:W3CDTF">2008-11-15T17:42:01Z</dcterms:modified>
  <cp:revision>21</cp:revision>
  <dc:subject/>
  <dc:title>Ms. Hood’s Classroom Webpage</dc:title>
</cp:coreProperties>
</file>