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16.jpeg" ContentType="image/jpeg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E8F-889B-4DF6-9E52-D648B33C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A32-394C-4B26-96C7-3BCC4D8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043-2620-4DFF-AE98-07E0EBAB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874-A896-4381-8764-24130EE0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8099-987D-4309-A55C-0860F867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E369-6DF2-44A7-B876-3F73AE4E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8AE7-587D-474E-A8D8-6C199F7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416-627B-469F-9856-139A02F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4573-5E76-49DB-9DAB-6AB28C2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6E88-19D7-4A16-A8DF-13A06112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8170-77AD-4F92-A74E-BD332D0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448-3AB0-4437-99D4-9D054E1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FB2-4F3E-4A12-BF21-19220DD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C4BC-9B79-4469-90FF-1B30BF8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DA1-0A0B-4948-8E37-F0B67DC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5CD2-518E-48E6-9A89-346F72C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851-3A73-450D-B195-165F2538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DBE9-8A75-4450-8D3D-60ADB724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FA61-E36E-46AD-8130-614D6044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24CC-6657-416C-91B7-07FB6488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2EE9-2E7D-4D42-B2A2-38D4FEFF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DB9D-6BBB-46FC-A3D2-D3CF32D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55A-EA62-4754-A5C0-BD95204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0E61-6FF2-40AE-B091-63B24C4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5D67-FFEE-42E9-9F00-4A9A3D4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D47E-721F-46E0-B75A-33BA053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A2E5-04A5-4377-A656-DD688AE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F218-4633-4A62-97E0-5DA42724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F9FA-5901-4D96-9D07-8E31DC02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40F8-3E09-456B-8DF4-50007A15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6B3E-63AB-4544-BA81-3F818979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B056-3DC3-4C74-8347-E9024CDB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7C05-B25D-4C12-947F-58F56A8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165-393B-4744-AAC3-B6AFC3A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017E-0306-4528-A432-413FD05C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CC7D-AF17-4FED-83C7-C63BF75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0A0E-8419-4BF4-8F64-7FF28242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61AB-BC28-4636-B1C2-06848E8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352D-73C0-4268-87B7-1126FA1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7190-0391-4CB0-991F-6DBA9CB6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6D0F-C350-4CFB-9CC2-EA03216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904C-247F-42AF-9A3F-D4DB4402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B2E7-C225-4C33-AF5A-6702AED7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A562-43FE-48EA-A515-CEB47C10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5C1-C840-423B-9EBD-1293D050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72C2-6CB7-4811-BC42-8030052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948C-9589-4931-94F7-0D655D4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AB6E-89CA-418E-80C3-D0EB9522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4B7A-A671-45D3-A95C-6287751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C4CC-7C33-429F-BF7B-4E58AD2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70A8-51B7-43F1-8250-86BB724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1201-B79B-473F-990A-F83E54E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F225-A17C-4CBB-B06C-BC8D380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F0B9-D9A4-4862-960F-1304FE0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860E-5C75-416D-BAB9-26754C6C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6A6-547E-466A-8EA1-6F5E799B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98DE-D8DF-4AEE-887A-B773F0D9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EB77-D4F7-4885-9202-EE36252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F075A-67C8-45FC-828A-43B4C0EE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BBB3-3CA3-492F-9CC0-2AFF8A7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9602-75D9-45A2-9B35-C2954BC4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F512D-9E89-49B4-8282-F1E3CB9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C531-93DD-4B4E-97E0-AF5E7B4D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11E2-6D12-4F0C-8844-FA7EC8D6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EEEA-1656-4CEC-A836-C8D1F5D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4782-64E5-4BE4-B96F-90D3187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847-BEF4-4C76-BF4E-CF3CEE1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B34A-3D7B-49F0-8717-319C116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1B5F-C48A-476F-BAFE-81C3921D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22FB0-D128-49F9-B49C-F1944654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F3B8-EB57-4F7C-B52C-C664E12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CE3F0-E799-4164-91FF-5FAE04D0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8CA8E-E527-41E4-995D-0A0D29D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A61F6-56DD-4202-9AD3-7B49482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0050-C91A-463A-ACE1-C1F336C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265D-A8CB-4FAF-9019-3EB3FA58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CCEE-614F-460B-AC8C-C0A97B1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967-0158-440F-A6EB-8859ED4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A73B-8A54-4CBC-B11D-855E783A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BB63-38BA-483B-8657-BA106AF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8FD9-4EE4-40B1-B3CF-AD4C07C8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F30D-E28D-45E2-9AC0-ED580A38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78C6-2D9D-4CA9-8DAD-F748C8E2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7770-D84C-45F1-A2E5-C271A1D6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8BDA-8EBF-41A6-9985-D8407EDA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F870-35E0-4344-8996-4940F846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0869-12DA-4130-A19D-B01E084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236D-49DC-4313-AA9D-B24F8CE0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160-8DFE-4850-B64E-E616756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D154A-FFB1-41E6-974D-59CF704B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58B5-F3AE-4176-86F4-1A478A7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84ED-2FFC-4795-80DB-81B201F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D6D1-ECB0-4A12-B3C4-695D083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13DC-B47B-42E7-B44C-EFF3DEF2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A24C-DF81-4969-92E3-0DCF0F96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2974-EC36-437F-BE53-30069A2B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428-D0ED-42A7-BCB8-C63929BD27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D70-695E-4A66-A767-F554A50437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DA7-5D55-4FA7-A8B4-C3CD92FA96A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4618-26A3-4931-B6C3-C18042C6731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246-7833-46AE-91CF-99EB1335E8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D33B-435F-44FA-B819-6940664CB7E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34F-4355-4E3D-96D9-CFAA8588E9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276E-8A8E-4257-B57E-7F6CEBA22B0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" TargetMode="External"/><Relationship Id="rId2" Type="http://schemas.openxmlformats.org/officeDocument/2006/relationships/hyperlink" Target="http://www.harcourtschool.com/" TargetMode="External"/><Relationship Id="rId3" Type="http://schemas.openxmlformats.org/officeDocument/2006/relationships/hyperlink" Target="http://www.studyisland.com/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hyperlink" Target="http://kids.yahoo.com/reference/encyclopedia" TargetMode="External"/><Relationship Id="rId6" Type="http://schemas.openxmlformats.org/officeDocument/2006/relationships/hyperlink" Target="http://www.arbookfind.com/" TargetMode="External"/><Relationship Id="rId7" Type="http://schemas.openxmlformats.org/officeDocument/2006/relationships/hyperlink" Target="http://kids.discovery.com/" TargetMode="External"/><Relationship Id="rId8" Type="http://schemas.openxmlformats.org/officeDocument/2006/relationships/hyperlink" Target="http://pbskids.org/" TargetMode="External"/><Relationship Id="rId9" Type="http://schemas.openxmlformats.org/officeDocument/2006/relationships/hyperlink" Target="http://www2.scholastic.com/browse/index.jsp" TargetMode="External"/><Relationship Id="rId10" Type="http://schemas.openxmlformats.org/officeDocument/2006/relationships/hyperlink" Target="http://www.funbrain.com/" TargetMode="External"/><Relationship Id="rId11" Type="http://schemas.openxmlformats.org/officeDocument/2006/relationships/hyperlink" Target="http://www.teach-nology.com/" TargetMode="External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podcast.com/videos/Basic_Math/4547AADD-A2C3-406A-97BF-200E09EF0D4A.html" TargetMode="External"/><Relationship Id="rId2" Type="http://schemas.openxmlformats.org/officeDocument/2006/relationships/hyperlink" Target="http://www.mathpodcast.com/videos/Basic_Math/D71AB87A-DE37-4792-801F-11C0DD1F1E7A.html" TargetMode="External"/><Relationship Id="rId3" Type="http://schemas.openxmlformats.org/officeDocument/2006/relationships/hyperlink" Target="http://www.mathpodcast.com/videos/Basic_Math/235A7C40-2021-4EDB-ADCE-EC7936825BBB.html" TargetMode="External"/><Relationship Id="rId4" Type="http://schemas.openxmlformats.org/officeDocument/2006/relationships/hyperlink" Target="http://www.mathpodcast.com/videos/Basic_Math/1E696DD3-EC2D-4BCA-9EF5-DABA9DEEF7D8.html" TargetMode="External"/><Relationship Id="rId5" Type="http://schemas.openxmlformats.org/officeDocument/2006/relationships/hyperlink" Target="http://www.mathpodcast.com/videos/Algebra/BCC07425-9A13-4013-B874-39724551DECD.html" TargetMode="External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questgarden.com/45/45/7/070105182037/index.htm" TargetMode="External"/><Relationship Id="rId2" Type="http://schemas.openxmlformats.org/officeDocument/2006/relationships/hyperlink" Target="http://www.ldcsb.on.ca/schools/cfe/rpt/RPT_Welcome/student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1920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1907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64646"/>
                </a:solidFill>
                <a:latin typeface="Lucida Sans Unicode"/>
              </a:rPr>
              <a:t>LaKeisha Hood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Course: EIT 640 Integration of Technology and Computer Application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November 16, 200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" descr="http://tbn0.google.com/images?q=tbn:stBJvfSUXy1R1M:http://www.lauras-playground.com/OA5X1239.JPG"/>
          <p:cNvPicPr/>
          <p:nvPr/>
        </p:nvPicPr>
        <p:blipFill>
          <a:blip r:embed="rId2"/>
          <a:stretch/>
        </p:blipFill>
        <p:spPr>
          <a:xfrm>
            <a:off x="304920" y="23623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oughton Miffl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place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arcour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arcourtschool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th &amp; Language Arts Suppo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tudy Island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tudyisland.com/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Virtual Manipulative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nlvm.usu.edu/en/nav/vLibrary.html 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Encyclopedia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kids.yahoo.com/reference/encyclopedi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ccelerated Reader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arbookfind.co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un and Educ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kids.discovery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BS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http://pbskids.org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cholastics Book Club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http://www2.scholastic.com/browse/index.js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unbra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http://www.funbrai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ology Base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each-nology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http://www.teach-nology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2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nverting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athpodcast.com/videos/Basic_Math/4547AADD-A2C3-406A-97BF-200E09EF0D4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qualities and inequalitie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mathpodcast.com/videos/Basic_Math/D71AB87A-DE37-4792-801F-11C0DD1F1E7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CD and Fraction Convers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athpodcast.com/videos/Basic_Math/235A7C40-2021-4EDB-ADCE-EC7936825BBB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ivision of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mathpodcast.com/videos/Basic_Math/1E696DD3-EC2D-4BCA-9EF5-DABA9DEEF7D8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gebra-Geometry formula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mathpodcast.com/videos/Algebra/BCC07425-9A13-4013-B874-39724551DECD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6"/>
          <a:stretch/>
        </p:blipFill>
        <p:spPr>
          <a:xfrm>
            <a:off x="231840" y="171360"/>
            <a:ext cx="846144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Birthday Party-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questgarden.com/45/45/7/070105182037/index.htm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elcome to our Classroom- LA/Lifeskills/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ldcsb.on.ca/schools/cfe/rpt/RPT_Welcome/student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Trip to the Big Apple- Math http://www.webquest.org/questgarden/lessons/14325-060312202119/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hopping Spree -Math http://216.101.58.17/ms/lnelson/Shopping%20Webquest/4Shopping%20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How would YOU stop a Bully- Language Arts http://questgarden.com/45/47/5/070105150727/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Rich Assessment Task Force- Math/ Language Arts http://www.ldcsb.on.ca/schools/cfe/rpt/RPT_Future_School/student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3"/>
          <a:stretch/>
        </p:blipFill>
        <p:spPr>
          <a:xfrm>
            <a:off x="225360" y="165240"/>
            <a:ext cx="846792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1447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809880" y="2666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99072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3352680" y="5562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1562400" cy="140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403280" cy="175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3124080" y="3505320"/>
            <a:ext cx="1295640" cy="142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6629400" y="3711600"/>
            <a:ext cx="203040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dge, B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rch, T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e, P. (2005, May 10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eacher Designed Webpages as a Classroom Tool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Retrieved from http://my-ecoach.com/online/webresourcelist.php?rlid=574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ard Pitler, E. R. (2007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Using Technology with Classroom Instruction That Works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Association for Supervision &amp; Curriculum Developm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ckstader, J. ( 1999 ). See more articles from T H E Journal (Technological Horizons In Education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 H E Journal (Technological Horizons In Education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6:56:52Z</dcterms:created>
  <dc:creator>Guest</dc:creator>
  <dc:description/>
  <dc:language>en-US</dc:language>
  <cp:lastModifiedBy>Guest</cp:lastModifiedBy>
  <dcterms:modified xsi:type="dcterms:W3CDTF">2008-11-15T17:42:01Z</dcterms:modified>
  <cp:revision>21</cp:revision>
  <dc:subject/>
  <dc:title>Ms. Hood’s Classroom Webpage</dc:title>
</cp:coreProperties>
</file>